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688-3D37-4971-A422-2E409997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097-CBFF-4FEE-9262-E8DE53A8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28D6A-11A3-46ED-AA13-B4E20FA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509E-4620-42D6-8D29-833D457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4991D-FC32-49D9-8E8D-7721391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F200B-7EF2-419C-9160-B78072B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AE422-5832-4408-9499-428B3B9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C1AE-9A26-4199-B02B-62B3DEA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95194-F592-4809-8AF7-C98C2744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ABE3B-17F1-47A1-B505-A8D018AB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8D027-2C9A-44F9-82B8-5E5AAB8B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3FE7E-280D-45CA-A49E-A3F8704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3D7-2B36-4322-8A7B-25A0DAE4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B77EA-FDCA-4B09-A4E1-D04FB7C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11FEA-9C12-4A60-9E39-F41E3FFA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29ADC-6F0F-48BE-808C-77BB722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37FC4-1C7D-43A7-BC2A-558F4C23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8356A-5B13-4960-915C-E7374F9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42FE-5BA4-4C78-B1F9-CF9706C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3ECB9-DA63-4766-A3CA-2B0102CD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C7273-F566-444B-8CF9-8F073C5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4589F-FF36-4252-B7B4-F07AE65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06D4A-0601-4C66-8B47-6D1FE0EB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A50-3112-4804-98F6-1B31F063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008E7-AA3B-4772-9CC6-E8876866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34443-97BD-46F2-A317-ACDE35C6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A204A-F6EA-4B3D-9EA2-4FC44F4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4F267-5FFB-4606-B031-B8DCB9E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C9928-B7CB-4373-BDD3-DF1DE5DF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9C592-6CC7-41A8-8D98-23F556A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5E0C0-F2B8-41DE-AA1B-7F95A4D1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1540-B870-4003-BFBF-CEF6FB8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59F9-D87F-49F5-8132-18FB6A2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7CA6D-8BD3-4FD1-B48F-7AD56CF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566-85D5-4737-868F-DA69992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F2E1-BBCC-4C74-9E7E-BB4036CA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89A9F-CE2F-4E75-86DA-576DE742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E737-6F07-4ADD-BDF9-8C42FFF9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3B4FE-1E5C-46A5-AD53-AD55D9AF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37262-5D9C-425A-BFF6-4B301F61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85E0E-BCF0-4C91-AEBA-09F49895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8663D-FFEF-400B-A4BB-9AAEAAF3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0D995-0409-4B80-B55E-CE60497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2BEF6-DDF9-4570-B5C3-76F670E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4B185-CF94-47E9-A031-3D0949B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ACE-C958-4155-A7AC-255DC9A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9BF1A-6C2D-466C-8279-B710023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9E345-67AC-4C09-9059-DA2EC9B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F8A9-368C-4B08-BEE3-2A238A76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DC4E3-A643-425C-A012-88012D0C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6F14C-FC9A-4C7E-A0C2-A3C09599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8A0FE-6F86-40F0-B3A6-457D34DA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7B8DD-5DC8-4DBD-9F95-B6D6F2C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A9D86-6F56-453F-BDAD-8940ACB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F335E-EB58-40A0-AE7F-8ED6813E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E0E72-894F-4C1D-B9DC-346C2E5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6514-BAAF-4AFE-B059-950D5AE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636EA-D09C-4BAD-A92F-08C855B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3A0E-E1A7-461B-85AF-79A2AEB5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4C895-E75F-4C68-9825-BF49AAE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AF2A1-CE41-4086-AC81-10B129C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F085C-24D0-4C26-8F0B-91C24888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0AF33-9852-4455-8E3D-3CCB488D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8D76D-B4D0-4B7C-9231-9B116C0B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3D2A0-0460-4363-B47C-2D4095A7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3A800-8771-42BE-ADAB-2405EFB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F25DA-ACAE-4B47-8B63-36543DF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382-EFB4-46CF-89E3-0DC66BE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7D303-3022-4746-A073-10A45435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F9E3E-898C-48D3-BE6E-A7838F8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09AF5-720E-4C15-9EE6-EB20BC8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1ACFE-DAD5-447D-A695-7299BC7F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11698-1B72-4036-BDA4-DFD439E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C6B90-814D-4A03-A3BC-BE1B9E6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F43D1-A68B-4B34-A177-D3FB3CF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4E6FB-CE8A-40B5-94EA-4FE73D7B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B1BBC-27EC-4819-AA0B-E52F1BF5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10F17-7B62-44F7-9F61-3C78AAA2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B8C-1CB0-49B6-9E45-35C8A1C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DD238-1CCF-4B50-B77B-C2DACE4A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AA4CB-9143-40C3-8635-EF6F1DA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759DF-4EA3-4B6D-9315-7A13152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88024-B9A7-4B5F-BFFC-AFD8C31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5FC74-2913-4F34-9902-63B149F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946E5-F2B6-4B2F-BBEA-98A71E9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BE3F4-762B-4A03-8B34-EC81360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44488-1645-426A-BE6B-9781A42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56299-F655-4C0F-9CAD-129992C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0F6A1-2A67-46B0-9D34-7FB3AE46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AD8-20C7-44B4-9017-20A73D3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BA34D-D412-4BBD-A965-3F4EADBB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4ED90-AF4D-42E5-A531-6E9A2E8C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A48E1-AE15-4E6E-B07E-C2823FC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7A59F-A609-4896-911B-75F38672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D45F3-329A-4A3D-B849-8D23512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579E9-CCF8-41F0-9FE7-C8F0EF4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B35E1-58ED-4260-BE42-B34D5E11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5A64E-3DE3-4A93-82E3-EE0727C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14D12-64D0-4812-9786-8333250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DFDB7-D022-49C6-AAA5-56E0511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08B-9980-4EFC-9000-6C950E9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7575A-5278-4EAC-800D-5111E824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F09AC-3E95-4748-AFA8-85329BF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DA787-BA0E-4393-9CBD-C4CBCA54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59B22-0DE6-4806-BF58-DE4E1802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9EA8A-EA8F-4B0B-8531-32CA0F67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28CD8-65A1-4383-8FE0-05062354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7DC2C-2B85-4E48-A24C-7E91A108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EF55A-DA5F-43A0-BD3D-0E4728D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0691C-575D-4A5F-B710-48C9DAF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DFAC4-720E-4FF0-B9B3-E41D69F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1DC-543E-424B-93FE-E4F8D338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FB4F-2B02-4F48-8967-FFE8B1B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3945F-7562-4A60-A043-C600689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A611C-C976-488A-B50A-825C878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73447-272F-4C9C-878F-BCE0AD27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2258B-8802-41FD-A8BC-B4D16126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7E743-180B-4F7C-B926-17A8CB71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30F8A-DFC4-468C-B892-B0814DBB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83959-3A10-4D95-A186-B4E8523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13968-42E1-429C-8A37-6673F1A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A124E-10D7-457A-8CFD-F2A1811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9FF36-4D02-48C4-B6C1-E827FC8F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811-DF32-4B41-AEC4-4FBE2AB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3DB62-CC1B-453A-926C-EED6779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6012E-8DA6-427E-8FDE-1044CD3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899C6-89AF-4A8E-9D81-B9CFF5D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E4A61-267E-451A-A72C-82246537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3D7E91-DE68-491F-AA9E-9609328F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409DE-956E-438E-AF08-314A0BB8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9772E-AFAC-4B44-B7F2-5BA5669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6A893-35CE-4B34-9DDC-868C4360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E6BF7-8367-4F75-901B-BF3B3AAF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FE1D6-3B66-4AD3-A310-BA57D47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91CC-960A-40F7-88DD-2A10C96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A234B-0628-4FCD-99AB-CB83D4C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60488-05B7-4788-BFFE-AA47BA6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3D237-4B80-495A-836C-33C631D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34E69-F0EA-4214-B984-84CFC6E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9A342-90D7-46E8-B250-C35AF22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B674D-F2F6-4599-BA2A-DDF8AF9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81886-CE7D-4D27-B768-99FB57DB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1EA62-8CC1-4046-8743-F5E60E2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7B28C-1298-4A12-AE89-CC3ACD3F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BB851-C160-4137-BAE9-594D45C0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065-8DAC-4EF0-A53B-56B3C02E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91573-6EB3-4BF0-BE28-9595E141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E02E6-5F46-41FE-877E-B95AEAB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0B30F-C890-4E81-AB99-64C23DAB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211EF-7D2A-4E4F-8BC9-701BBC5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324FB-7272-4744-A841-F1AE2E9F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2C56D-C038-491F-8BAA-13718697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C031A-5F34-4465-B5B5-68D5688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E749D-A419-4AE0-A780-A6CB235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33D01-49EE-4EE2-864D-ECC864AD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A7A24-0CD6-4BB4-BCFE-BCF9F374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E68-2C8D-4E09-B1D1-D5E735D8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42CED-527B-47EF-83A7-D10A08DF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53B7D-C21D-405E-A26B-E7AB6BE1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D75A4-A9FE-40EB-BD60-9D6CE836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69517-48FE-4CC7-A628-B6F3DF5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77991-088D-4E14-8938-5D0814AA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916E6-0F23-4968-B627-84E24BB8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8D24D-2DC7-4666-9065-D6113D8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30568-0C7C-4755-8FB4-477EF60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DF111-D63F-49CB-A201-3987F67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C2DC4-C1BD-45C3-A73D-F08B347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3FDD-584B-47C0-A1A9-CEE21D30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4C8AD-BB2C-4FBE-8DF9-C672FA7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D1028-CF90-4F8B-8892-5637A20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FB21E5-B09B-43EB-A4DA-C922696C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9CFA-0C90-4B1F-A2ED-A9D4302A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3FC3-2D68-4B6A-AAF9-15FC07C8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E9F3-1C2C-454A-A132-74A9FE9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43F4-F332-4330-AB32-41AA8C0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FD2-D7D7-46BD-BBBA-2F7BC6F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8196-1319-4565-BA87-849E6B3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62D2-8B14-4C51-AF22-8E05D8F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EA5B-875B-42B1-8ED8-43AA4C5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516D-1F34-44C5-9ADF-D6AE0287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8F9D-D86C-459C-AFBD-DAD93E1A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7E09-D03A-49BB-8267-B25A13EC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6687-A0A2-4537-A2BF-A3FD085B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DC54-1CE5-4D7E-A12A-D680BA59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4496-02EF-419D-A2F7-9C17E08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2BD7-13D3-485B-BF72-90B02345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D1C-3C1D-47D9-B55E-C293023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8D08-E069-4D3D-A3B9-322A562D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46AEA-217A-43C8-812E-59005EC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39CA-8833-4717-B4DC-05EE711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2AEA-48EF-4BF6-A479-E04CD07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0A61-E735-4BCD-960E-EAE66C4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5E77-406E-43CA-831E-BBE4A2E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9D04-B398-468C-94F2-9138AE9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06DD-EA33-48A1-A4BE-5F2147FC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916E-3A5B-4728-8209-4D79205E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F53E-3435-44BF-A001-352B3519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168-E71D-4057-BC1E-507DCDD6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1F3E-4E2B-4F97-8616-02CDDE1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2AFA2-33FF-48B2-9523-A6EA670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AF0D-A597-466B-AA82-46CE77D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D70A-C4E3-4A38-BF5E-9291B98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2E42-AE02-4960-83B3-20BD3455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B5B6-C4C0-4111-97A1-623C5A1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8C5B-62E5-48ED-8FB7-F45962C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4ED2-A653-4EAF-8F14-843C096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14E2-A59A-4938-97F7-DB862B5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520C-C948-4268-AB0E-F458BDF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F6B-DFCC-402E-BD5B-0D20F7B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1304E-916A-4423-A8C6-5B05DED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0C6F-EB63-4DA2-AF60-0EE50A85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65F3-A1AC-4E7B-9BAA-F7415616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65D0-EBE5-4D00-9350-9A4012A2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897A-9778-46B7-9977-5767064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7439-4CE6-48FA-91A4-92D17E7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34A9-9540-4F0E-B1A8-8138FEE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62DDD-536E-4FB2-8545-3D48B9F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0714-2096-489A-BA30-A24C4A9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649A-34E0-406D-8069-C148A9D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34-DB72-43A9-9B9E-15E2AC1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E1E7-E74E-46A8-90C3-53D69311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6EE7-32A9-45F8-8EC9-CAB5D060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963B-AA20-4B41-A93B-3612B399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1B13-F7B7-4230-ADED-CA9086EB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600F-B411-421A-80FD-6265CEE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2BE4-67B9-4025-83EE-7DBCD98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C0C21-C65A-4BB9-BB12-200A009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0A67-6D52-4460-B66B-101D10E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66EB-6E8E-4436-AF91-E59A1A0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5E8B-631D-45B3-BAB9-DC7B2EE0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74C-0082-4AFF-86B1-A7E1AA6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2A2F7-F03E-40F8-B965-0A4A7098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FCEB-4A0D-4F59-A1C3-7091191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EC025-04E1-475F-A199-DC1A637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1AAA-DD5B-4541-9BE4-151C65C9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9ADF-9052-4515-8AB4-400376A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0068-EC86-4FC7-8DFF-6314445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29E3C-E6AF-41FA-9A43-19239D66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8658-0DF4-456C-9D0D-A345489C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EF59-2BE7-4259-9572-A6AEE4E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FA83-7204-4A83-B9AC-19768F9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C77-8CDC-4DC3-877F-8BFCB7A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6D42-0725-497B-AF77-085D7893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D516-3CD4-481D-B9B4-DDC0130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B70D-EB92-4EE6-B839-491B41D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89B7-9808-480D-B3E1-B33A3C5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D303-7E1D-483B-B84A-B9822EF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C5EA-5942-4A0E-B7D0-A67FC7BD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EA21E-4D1C-428F-B522-29534476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CDC1-9539-4D59-9031-F47766C0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307A-0E4C-4536-95C8-A0628B4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A828-9104-4F1D-9948-41CC1BF0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7FC-6FA7-4964-B0CE-5A1938FED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42C-3BA1-4EEF-9FC0-6E0B7C4E3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9612-CCBF-4DE2-9463-2823A524C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976-2216-442D-B46B-2DD9076A2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87B5-B068-4AA0-B608-5D9DAA35FE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64D0-FB99-4D13-A93F-D47ED4FE4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05B1-D8A6-49F9-891A-0C8A3BEC4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EA86-049B-490E-AEA5-6D14BD1E9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E13-D442-43D2-B807-C6C05D263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9CA-142E-4ACE-8266-6B49A7C69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81A-BFB6-4E96-8D0C-C60ECE583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F1F-DE3E-4AB4-BF5E-173F92205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89F-4434-46F4-8158-C6DCB66AB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9E9-1FFA-41F8-BC71-DA4C846C5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287C-E0BB-439D-99D7-2844368EF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51CA-90F6-463F-92FC-8D22F8FA2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83D7-6676-4E3E-8CA4-2A984657B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53A-7C08-4FAE-AB83-F5EBF522B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281A-74A6-4706-BBC6-D8ADE63E0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313-C338-4237-9B4C-BAE0C0923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FA1-5A00-4872-AF6F-90BE8E064C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6276-9DD9-4A1E-91FD-548067093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E1C1-BF4B-4FB6-AB33-BAF758733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4BF-B57A-4C95-8CD0-5E356331A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F0F0-E719-4648-B1A3-7E0363783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D67-6F93-43B7-B0DC-576D2D29E1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7D56-8A60-4D24-BF65-FD59F1BF4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614-56B9-4ECA-8EEB-790D86E37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7B3-4312-4112-9EB1-941FCEAA84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908B-332B-4E5E-8628-0C69AC428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58B-13BC-41CC-BA9F-C76B4A754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A2C-5F92-40FC-BE71-EA98D9574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AEC-0CDB-4A76-9E63-33C06A0B2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A6A-9E14-4326-8F18-3B0CB04B5E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BE5-3CA0-4844-872F-582EF171B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D5B-3118-4D2D-8F34-B266EAB740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B58-E42E-4A4B-A303-E89E083B1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46F-C937-4E1D-B533-105EF144B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5C9-1589-42C1-BFEE-3D29E7F4D4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5AE-E567-47FC-B665-828FA325B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219560" cy="581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785960" y="3714840"/>
            <a:ext cx="55054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1" descr=""/>
          <p:cNvPicPr/>
          <p:nvPr/>
        </p:nvPicPr>
        <p:blipFill>
          <a:blip r:embed="rId1"/>
          <a:stretch/>
        </p:blipFill>
        <p:spPr>
          <a:xfrm>
            <a:off x="357120" y="838080"/>
            <a:ext cx="8487000" cy="5877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2"/>
          <a:stretch/>
        </p:blipFill>
        <p:spPr>
          <a:xfrm>
            <a:off x="285840" y="3699000"/>
            <a:ext cx="5857920" cy="4237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3"/>
          <a:stretch/>
        </p:blipFill>
        <p:spPr>
          <a:xfrm>
            <a:off x="285840" y="4076640"/>
            <a:ext cx="5857920" cy="424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4"/>
          <a:stretch/>
        </p:blipFill>
        <p:spPr>
          <a:xfrm>
            <a:off x="285840" y="4525920"/>
            <a:ext cx="5857920" cy="424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5"/>
          <a:stretch/>
        </p:blipFill>
        <p:spPr>
          <a:xfrm>
            <a:off x="285840" y="5005440"/>
            <a:ext cx="5857920" cy="423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6"/>
          <a:stretch/>
        </p:blipFill>
        <p:spPr>
          <a:xfrm>
            <a:off x="285840" y="5443560"/>
            <a:ext cx="5857920" cy="4255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7"/>
          <a:stretch/>
        </p:blipFill>
        <p:spPr>
          <a:xfrm>
            <a:off x="285840" y="6045120"/>
            <a:ext cx="5857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1" descr=""/>
          <p:cNvPicPr/>
          <p:nvPr/>
        </p:nvPicPr>
        <p:blipFill>
          <a:blip r:embed="rId1"/>
          <a:stretch/>
        </p:blipFill>
        <p:spPr>
          <a:xfrm>
            <a:off x="542880" y="942840"/>
            <a:ext cx="8058240" cy="49723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3"/>
          <a:stretch/>
        </p:blipFill>
        <p:spPr>
          <a:xfrm>
            <a:off x="285840" y="13572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4"/>
          <a:stretch/>
        </p:blipFill>
        <p:spPr>
          <a:xfrm>
            <a:off x="285840" y="1898640"/>
            <a:ext cx="8786880" cy="696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5"/>
          <a:stretch/>
        </p:blipFill>
        <p:spPr>
          <a:xfrm>
            <a:off x="285840" y="2774880"/>
            <a:ext cx="8786880" cy="725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6"/>
          <a:stretch/>
        </p:blipFill>
        <p:spPr>
          <a:xfrm>
            <a:off x="285840" y="36432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7"/>
          <a:stretch/>
        </p:blipFill>
        <p:spPr>
          <a:xfrm>
            <a:off x="285840" y="4154400"/>
            <a:ext cx="8786880" cy="7542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8"/>
          <a:stretch/>
        </p:blipFill>
        <p:spPr>
          <a:xfrm>
            <a:off x="285840" y="5083200"/>
            <a:ext cx="8786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"/>
          <p:cNvPicPr/>
          <p:nvPr/>
        </p:nvPicPr>
        <p:blipFill>
          <a:blip r:embed="rId1"/>
          <a:stretch/>
        </p:blipFill>
        <p:spPr>
          <a:xfrm>
            <a:off x="357120" y="738360"/>
            <a:ext cx="8439120" cy="60483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" descr=""/>
          <p:cNvPicPr/>
          <p:nvPr/>
        </p:nvPicPr>
        <p:blipFill>
          <a:blip r:embed="rId2"/>
          <a:stretch/>
        </p:blipFill>
        <p:spPr>
          <a:xfrm>
            <a:off x="5745240" y="3886200"/>
            <a:ext cx="29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3"/>
          <a:stretch/>
        </p:blipFill>
        <p:spPr>
          <a:xfrm>
            <a:off x="285840" y="386244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4"/>
          <a:stretch/>
        </p:blipFill>
        <p:spPr>
          <a:xfrm>
            <a:off x="285840" y="4397400"/>
            <a:ext cx="5572080" cy="6793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5"/>
          <a:stretch/>
        </p:blipFill>
        <p:spPr>
          <a:xfrm>
            <a:off x="285840" y="5245200"/>
            <a:ext cx="5572080" cy="7776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6"/>
          <a:stretch/>
        </p:blipFill>
        <p:spPr>
          <a:xfrm>
            <a:off x="285840" y="6111720"/>
            <a:ext cx="5572080" cy="7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96400" cy="60962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8786880" cy="684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3"/>
          <a:stretch/>
        </p:blipFill>
        <p:spPr>
          <a:xfrm>
            <a:off x="285840" y="15001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4"/>
          <a:stretch/>
        </p:blipFill>
        <p:spPr>
          <a:xfrm>
            <a:off x="285840" y="19494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5"/>
          <a:stretch/>
        </p:blipFill>
        <p:spPr>
          <a:xfrm>
            <a:off x="285840" y="24890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6"/>
          <a:stretch/>
        </p:blipFill>
        <p:spPr>
          <a:xfrm>
            <a:off x="285840" y="3021120"/>
            <a:ext cx="8786880" cy="6840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7"/>
          <a:stretch/>
        </p:blipFill>
        <p:spPr>
          <a:xfrm>
            <a:off x="285840" y="3878280"/>
            <a:ext cx="8786880" cy="6843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8"/>
          <a:stretch/>
        </p:blipFill>
        <p:spPr>
          <a:xfrm>
            <a:off x="285840" y="46483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9"/>
          <a:stretch/>
        </p:blipFill>
        <p:spPr>
          <a:xfrm>
            <a:off x="285840" y="5213520"/>
            <a:ext cx="8786880" cy="6825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10"/>
          <a:stretch/>
        </p:blipFill>
        <p:spPr>
          <a:xfrm>
            <a:off x="285840" y="6083280"/>
            <a:ext cx="878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1" descr=""/>
          <p:cNvPicPr/>
          <p:nvPr/>
        </p:nvPicPr>
        <p:blipFill>
          <a:blip r:embed="rId1"/>
          <a:stretch/>
        </p:blipFill>
        <p:spPr>
          <a:xfrm>
            <a:off x="366840" y="857160"/>
            <a:ext cx="8410320" cy="4657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2" descr=""/>
          <p:cNvPicPr/>
          <p:nvPr/>
        </p:nvPicPr>
        <p:blipFill>
          <a:blip r:embed="rId2"/>
          <a:stretch/>
        </p:blipFill>
        <p:spPr>
          <a:xfrm>
            <a:off x="857160" y="5786280"/>
            <a:ext cx="304812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3"/>
          <a:stretch/>
        </p:blipFill>
        <p:spPr>
          <a:xfrm>
            <a:off x="285840" y="577044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2533680" cy="41529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3" descr=""/>
          <p:cNvPicPr/>
          <p:nvPr/>
        </p:nvPicPr>
        <p:blipFill>
          <a:blip r:embed="rId2"/>
          <a:stretch/>
        </p:blipFill>
        <p:spPr>
          <a:xfrm>
            <a:off x="4886280" y="681120"/>
            <a:ext cx="2685960" cy="42480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3"/>
          <a:stretch/>
        </p:blipFill>
        <p:spPr>
          <a:xfrm>
            <a:off x="1214280" y="5000760"/>
            <a:ext cx="5715000" cy="17618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4"/>
          <a:stretch/>
        </p:blipFill>
        <p:spPr>
          <a:xfrm>
            <a:off x="285840" y="703440"/>
            <a:ext cx="4214880" cy="4278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5"/>
          <a:stretch/>
        </p:blipFill>
        <p:spPr>
          <a:xfrm>
            <a:off x="285840" y="49849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6"/>
          <a:stretch/>
        </p:blipFill>
        <p:spPr>
          <a:xfrm>
            <a:off x="285840" y="543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7"/>
          <a:stretch/>
        </p:blipFill>
        <p:spPr>
          <a:xfrm>
            <a:off x="285840" y="58626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8"/>
          <a:stretch/>
        </p:blipFill>
        <p:spPr>
          <a:xfrm>
            <a:off x="285840" y="631188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2" descr=""/>
          <p:cNvPicPr/>
          <p:nvPr/>
        </p:nvPicPr>
        <p:blipFill>
          <a:blip r:embed="rId1"/>
          <a:stretch/>
        </p:blipFill>
        <p:spPr>
          <a:xfrm>
            <a:off x="928800" y="857160"/>
            <a:ext cx="7124760" cy="58104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2"/>
          <a:stretch/>
        </p:blipFill>
        <p:spPr>
          <a:xfrm>
            <a:off x="285840" y="8650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3"/>
          <a:stretch/>
        </p:blipFill>
        <p:spPr>
          <a:xfrm>
            <a:off x="285840" y="1316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4"/>
          <a:stretch/>
        </p:blipFill>
        <p:spPr>
          <a:xfrm>
            <a:off x="285840" y="1785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5"/>
          <a:stretch/>
        </p:blipFill>
        <p:spPr>
          <a:xfrm>
            <a:off x="285840" y="22543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6"/>
          <a:stretch/>
        </p:blipFill>
        <p:spPr>
          <a:xfrm>
            <a:off x="285840" y="2754360"/>
            <a:ext cx="8786880" cy="723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7"/>
          <a:stretch/>
        </p:blipFill>
        <p:spPr>
          <a:xfrm>
            <a:off x="285840" y="35514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8"/>
          <a:stretch/>
        </p:blipFill>
        <p:spPr>
          <a:xfrm>
            <a:off x="285840" y="4076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9"/>
          <a:stretch/>
        </p:blipFill>
        <p:spPr>
          <a:xfrm>
            <a:off x="285840" y="4556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10"/>
          <a:stretch/>
        </p:blipFill>
        <p:spPr>
          <a:xfrm>
            <a:off x="285840" y="5072040"/>
            <a:ext cx="8786880" cy="723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11"/>
          <a:stretch/>
        </p:blipFill>
        <p:spPr>
          <a:xfrm>
            <a:off x="285840" y="5950080"/>
            <a:ext cx="8786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1" descr=""/>
          <p:cNvPicPr/>
          <p:nvPr/>
        </p:nvPicPr>
        <p:blipFill>
          <a:blip r:embed="rId1"/>
          <a:stretch/>
        </p:blipFill>
        <p:spPr>
          <a:xfrm>
            <a:off x="500040" y="871560"/>
            <a:ext cx="8153280" cy="5772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2"/>
          <a:stretch/>
        </p:blipFill>
        <p:spPr>
          <a:xfrm>
            <a:off x="285840" y="936720"/>
            <a:ext cx="8786880" cy="7761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3"/>
          <a:stretch/>
        </p:blipFill>
        <p:spPr>
          <a:xfrm>
            <a:off x="285840" y="17542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4"/>
          <a:stretch/>
        </p:blipFill>
        <p:spPr>
          <a:xfrm>
            <a:off x="285840" y="22147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5"/>
          <a:stretch/>
        </p:blipFill>
        <p:spPr>
          <a:xfrm>
            <a:off x="285840" y="26827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"/>
          <p:cNvPicPr/>
          <p:nvPr/>
        </p:nvPicPr>
        <p:blipFill>
          <a:blip r:embed="rId6"/>
          <a:stretch/>
        </p:blipFill>
        <p:spPr>
          <a:xfrm>
            <a:off x="285840" y="3143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4" descr=""/>
          <p:cNvPicPr/>
          <p:nvPr/>
        </p:nvPicPr>
        <p:blipFill>
          <a:blip r:embed="rId7"/>
          <a:stretch/>
        </p:blipFill>
        <p:spPr>
          <a:xfrm>
            <a:off x="285840" y="35719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8"/>
          <a:stretch/>
        </p:blipFill>
        <p:spPr>
          <a:xfrm>
            <a:off x="285840" y="4076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9"/>
          <a:stretch/>
        </p:blipFill>
        <p:spPr>
          <a:xfrm>
            <a:off x="285840" y="46483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4" descr=""/>
          <p:cNvPicPr/>
          <p:nvPr/>
        </p:nvPicPr>
        <p:blipFill>
          <a:blip r:embed="rId10"/>
          <a:stretch/>
        </p:blipFill>
        <p:spPr>
          <a:xfrm>
            <a:off x="285840" y="5226120"/>
            <a:ext cx="8786880" cy="7761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11"/>
          <a:stretch/>
        </p:blipFill>
        <p:spPr>
          <a:xfrm>
            <a:off x="285840" y="615456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6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6840" y="1123920"/>
            <a:ext cx="8410320" cy="4610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2725560"/>
            <a:ext cx="8786880" cy="752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611520"/>
            <a:ext cx="8786880" cy="71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4459320"/>
            <a:ext cx="8786880" cy="722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5229360"/>
            <a:ext cx="8786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04920" y="1104840"/>
            <a:ext cx="8534160" cy="5181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1571760" y="2550960"/>
            <a:ext cx="785520" cy="424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3"/>
          <a:stretch/>
        </p:blipFill>
        <p:spPr>
          <a:xfrm>
            <a:off x="5643720" y="3459240"/>
            <a:ext cx="3076560" cy="1876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4"/>
          <a:stretch/>
        </p:blipFill>
        <p:spPr>
          <a:xfrm>
            <a:off x="285840" y="350028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5"/>
          <a:stretch/>
        </p:blipFill>
        <p:spPr>
          <a:xfrm>
            <a:off x="285840" y="393372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6"/>
          <a:stretch/>
        </p:blipFill>
        <p:spPr>
          <a:xfrm>
            <a:off x="285840" y="43624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7"/>
          <a:stretch/>
        </p:blipFill>
        <p:spPr>
          <a:xfrm>
            <a:off x="285840" y="486252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8"/>
          <a:stretch/>
        </p:blipFill>
        <p:spPr>
          <a:xfrm>
            <a:off x="285840" y="5322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9"/>
          <a:stretch/>
        </p:blipFill>
        <p:spPr>
          <a:xfrm>
            <a:off x="285840" y="574056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5915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285840" y="4014720"/>
            <a:ext cx="5072040" cy="4255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285840" y="4500720"/>
            <a:ext cx="5072040" cy="423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285840" y="5014800"/>
            <a:ext cx="5072040" cy="425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285840" y="5454720"/>
            <a:ext cx="5072040" cy="423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6"/>
          <a:stretch/>
        </p:blipFill>
        <p:spPr>
          <a:xfrm>
            <a:off x="285840" y="6012000"/>
            <a:ext cx="87868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105760" cy="51055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285840" y="1154160"/>
            <a:ext cx="8786880" cy="779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285840" y="2131920"/>
            <a:ext cx="8786880" cy="768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285840" y="3070080"/>
            <a:ext cx="8786880" cy="7765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85840" y="4019400"/>
            <a:ext cx="8786880" cy="776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85840" y="48625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285840" y="5429160"/>
            <a:ext cx="8786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95280" y="785880"/>
            <a:ext cx="8391600" cy="5952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2"/>
          <a:stretch/>
        </p:blipFill>
        <p:spPr>
          <a:xfrm>
            <a:off x="5869080" y="3083040"/>
            <a:ext cx="2886120" cy="2485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316404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358308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4014720"/>
            <a:ext cx="5572080" cy="425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450540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285840" y="4933800"/>
            <a:ext cx="5572080" cy="424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8"/>
          <a:stretch/>
        </p:blipFill>
        <p:spPr>
          <a:xfrm>
            <a:off x="285840" y="5383080"/>
            <a:ext cx="5572080" cy="424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9"/>
          <a:stretch/>
        </p:blipFill>
        <p:spPr>
          <a:xfrm>
            <a:off x="285840" y="58626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10"/>
          <a:stretch/>
        </p:blipFill>
        <p:spPr>
          <a:xfrm>
            <a:off x="285840" y="629136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4400640" cy="1724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2"/>
          <a:stretch/>
        </p:blipFill>
        <p:spPr>
          <a:xfrm>
            <a:off x="357120" y="2500200"/>
            <a:ext cx="8382240" cy="42865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85840" y="7142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285840" y="1154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285840" y="1654200"/>
            <a:ext cx="8786880" cy="700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6"/>
          <a:stretch/>
        </p:blipFill>
        <p:spPr>
          <a:xfrm>
            <a:off x="285840" y="4505400"/>
            <a:ext cx="5072040" cy="423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7"/>
          <a:stretch/>
        </p:blipFill>
        <p:spPr>
          <a:xfrm>
            <a:off x="285840" y="4943520"/>
            <a:ext cx="5072040" cy="425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8"/>
          <a:stretch/>
        </p:blipFill>
        <p:spPr>
          <a:xfrm>
            <a:off x="285840" y="5433840"/>
            <a:ext cx="5072040" cy="424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9"/>
          <a:stretch/>
        </p:blipFill>
        <p:spPr>
          <a:xfrm>
            <a:off x="285840" y="5862600"/>
            <a:ext cx="5072040" cy="424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0"/>
          <a:stretch/>
        </p:blipFill>
        <p:spPr>
          <a:xfrm>
            <a:off x="285840" y="6311880"/>
            <a:ext cx="507204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5667480" cy="21621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2" descr=""/>
          <p:cNvPicPr/>
          <p:nvPr/>
        </p:nvPicPr>
        <p:blipFill>
          <a:blip r:embed="rId2"/>
          <a:stretch/>
        </p:blipFill>
        <p:spPr>
          <a:xfrm>
            <a:off x="285840" y="4500720"/>
            <a:ext cx="8601120" cy="17906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285840" y="1011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285840" y="1560600"/>
            <a:ext cx="8786880" cy="687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285840" y="2384280"/>
            <a:ext cx="87868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105760" cy="49338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2"/>
          <a:stretch/>
        </p:blipFill>
        <p:spPr>
          <a:xfrm>
            <a:off x="5929200" y="1214280"/>
            <a:ext cx="2667240" cy="2552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285840" y="126540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285840" y="1735200"/>
            <a:ext cx="557208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285840" y="2193840"/>
            <a:ext cx="5572080" cy="424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6"/>
          <a:stretch/>
        </p:blipFill>
        <p:spPr>
          <a:xfrm>
            <a:off x="285840" y="2643120"/>
            <a:ext cx="5572080" cy="424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7"/>
          <a:stretch/>
        </p:blipFill>
        <p:spPr>
          <a:xfrm>
            <a:off x="285840" y="3154320"/>
            <a:ext cx="5572080" cy="7444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8"/>
          <a:stretch/>
        </p:blipFill>
        <p:spPr>
          <a:xfrm>
            <a:off x="285840" y="39736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9"/>
          <a:stretch/>
        </p:blipFill>
        <p:spPr>
          <a:xfrm>
            <a:off x="285840" y="4440240"/>
            <a:ext cx="8786880" cy="8143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10"/>
          <a:stretch/>
        </p:blipFill>
        <p:spPr>
          <a:xfrm>
            <a:off x="285840" y="5365800"/>
            <a:ext cx="8786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12:3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